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0BAF-7998-4A17-9D29-D7921B5C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EF5C-1FAF-4C6B-B8C0-88A5CCB1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114C5-0B8F-46CB-B954-15C066A7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796BF-3C4B-4CE9-B01E-D242BB14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D1064-68B3-45D8-8672-746B4FFD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A4359-7A2A-457F-9512-23AA878B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F058F-5A2B-4C39-85C3-3ACBCF75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C0E8B-8F2B-4A92-B29C-8B373B59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F1D5E-043A-4A50-9ACB-6652EC4E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754E9-41FE-4B53-8280-08834FFC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4EBFE-7B33-4587-9E2F-6BB032EB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7367D-6E65-454B-A8E8-27269724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C1C1-87B8-4760-B359-8A6EC760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79397-FEE7-461F-B622-4378DC65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8231B-2457-44FA-B138-C17D1F0C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5DECE-125D-4360-AC3D-FD954C2B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D7E8C-1D8A-4601-BEC6-BFBC6F9C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62323-808B-4A1B-9C56-5D66FAD4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0A7E1-475B-4C68-8560-3C21CF21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B4FBA-24AC-4E7B-BA21-69D7D447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F4DF4-7486-4305-81D5-F5CDB4A2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EB24B-DA2A-4D15-9DF0-D7C74E37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BBAAE-1649-499A-B424-C75342C9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A938-3042-4E5F-8FC2-971AB431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01760-2767-4878-B275-406C30EA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1965A-310D-46A5-A3E0-FAB23D0D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691F5-8632-410B-BDE5-1493D507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25046-4A67-461A-BBC0-372740EE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9F72F-6C5E-4EE2-B75E-88605FC4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EA0A4-1866-41A3-903D-27391FF9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E9A87-6120-4A34-AFDF-08D995A6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1B8D1-3BC7-40A7-ACFC-4012E42A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B7CAB-FECB-4FA7-82A4-379DA993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8C24B-DFBC-4A92-AB74-13D5859B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4A54-60B8-4C7D-9D08-07D23847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26010-912A-466E-B454-E47BC333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4E907-BBCB-440A-A9F6-C0683C5F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A6BE9-E0B3-4F6F-AC53-B9377CB1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746E1-1C2A-477E-8970-50762FE7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934B7-E864-455F-A359-52A1B40A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C548B-5379-44C5-8B9B-8F5B2F3B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63498-A6C1-46AC-8FBE-EF87A2F0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4D0C3-B3CA-474E-AEE3-21F9629A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A313F-4ED9-4024-911E-6D2F7C75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E7925-B9E0-4AA8-B444-4354CE8E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E99F-4D4F-4BBD-A604-F04EEAA5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549BF-BAA2-4BD5-A4CB-7442AB4A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4C993-422D-4632-947E-4597C709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27AB0-DE61-4501-8366-E3FB77CF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FBA45-4CCB-43A1-A073-62F33E5D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B93AB-4A45-4840-BE94-C3CFB7DD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61B63F-1756-493F-ACA8-C35F9EE3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310D95-F997-42C2-A80E-2A59B00D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17281C-E4B1-4132-A354-1936A6BD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5A3E25-4136-4DCB-8D37-69924CA5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F172E-1723-4336-BD8F-9A1B0013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1452-A787-414E-8019-7E2A83D7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EFD44A-6BD0-4AF3-BAC2-45024D62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627FF-AE2C-48AB-BEE3-F80CC921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89D070-B965-4A4D-851A-BFB772BD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663D6-27E4-4906-A19B-D128BC2A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334EAF-10D0-45E3-9B63-988A487C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33EB7E-44C5-4CB5-BBC6-1CCF8805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7F813-1680-4B85-B3F1-BD94EF86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C2D470-A705-47D9-B2C4-02FBB958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8DFB6C-6DFD-48F0-83DF-562CE761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71230F-07A7-43CA-A4C0-4FECE3E7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7F11-6153-4128-A138-563F0D68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21A38E-B77D-4E1D-8C26-436C162D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0B4128-1FE8-4140-B067-880190F2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69516D-07E4-4473-BD00-CB64F794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518F0A-6332-4AE1-B5D3-5C611F14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1EF186-A811-4E67-B556-4AC73AE8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F9341D-86A6-4C6D-A0A5-87AD7A04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4146E4-F847-44A5-87CC-C857F064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2803A9-C3AA-400D-8820-2F2F526B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A42271-2274-42EC-ACBB-F98572B1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6E6DCE-28E9-4077-88EA-26EF86CB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25C0-26A6-4201-A181-C5CB7A3D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84BD03-70F5-4717-A533-0588135C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4499A4-F84C-49A8-86F1-4CC875BC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75AE38-E78F-448C-AC32-C72BFA87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A89382-BBEA-42FD-8A80-0BE00C60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05C75B-E866-4B52-80B6-B6B94421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392812-3080-4227-8BD4-F21DA992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93240B-C674-4F96-AA52-F072299E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2FE8DE-1526-4340-BB4C-32151692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48B8D9-AE22-4BDC-96C4-3E27F86B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6E6448-472B-45BA-BDC7-31D954A4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1C59-2124-4B35-86CA-B6E78B80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09F3DC-E9AF-4071-8B3C-239449E6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B07B1E-DF88-4DD1-8C4C-D9F6565C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307830-5C7D-4674-A6AA-A58C1486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B6363A-435F-4EDF-9109-3AEBDAF6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757110-335C-45E9-A947-656AE6EE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9E4E1B-91A8-4B03-AA2C-A4BC151A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C75419-CAA6-4E26-9988-6A42E4D4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A54770-67CF-40DD-B022-A7AB6FB8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DFD2CE-DD6D-4469-AF09-ACFE16B0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10E0B3-9D28-4277-83BC-32574B56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6795-2F5B-4104-A68D-4E8CAD7C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C34C7C-B73A-442C-8868-CFF4AD83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AB6310-C573-4BC2-871A-17ECB067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4A34E1-BFA8-45A6-B632-94B234B6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B6C5C2-C153-47BA-A15A-0BB063F8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F5C96E-EB21-4469-83FF-1379DCA2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8DB815-E253-457C-B18C-164A3440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3C5A31-955F-4BF5-B6D6-6110942D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B73D83-6BA4-4208-848F-92C28FCB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BDBF33-8B2A-411E-B5EA-45135087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314929-B9E6-4AD2-A2E1-3D22E66C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F42C-218F-42FE-BBC7-E28F06FD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4CEB-456A-48DE-B4C1-BB5A25F8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29F264-9585-4722-9B1A-31A24751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DC3DE0-1F79-4E01-B385-DE8C2096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055A27-ADEF-46F4-BD5D-56D21925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F1610F-F5EB-4B3F-877C-2A38CF93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476886-4D66-4530-BADE-8FCE81F3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ADF5E0-A7A1-491A-89F9-6D20DC92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EB0A9F-F461-4E22-8F64-1E8B9DAB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DFFE57-A005-4BE8-85BD-672FDA99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863453-5EE9-43C3-9E0B-A13D16B2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1FE97A-8411-416C-B329-285D29CC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4268-39A8-4CCD-8339-EC745B91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12E87C-726D-4648-9A71-BFCC11FD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E3F19C-C51C-4621-8C83-4603489C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9866B2-A67C-4AB4-8E17-C5D1D8C2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05D3EE-AE14-44A0-A0F6-F605CA7D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E57BCB-0415-42DA-93A4-0917D093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F13907-4AAB-4D27-B24B-D2F89835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2CC16F-58EC-4688-9285-8F615E04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2E1119-FCC8-426A-82A0-74A7515A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0C472D-1FD9-49AA-8329-6CF2019D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CF1EC7-9140-4B1B-8ACB-E593E8E9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0F64-4EF6-41CA-913A-9A85CD8D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F5880E-1880-4810-BF3F-77252787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813DC6-5BBD-41DE-A218-1B379DAA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1C5DD3-836C-4D70-B141-0427BEC4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8710EE-2D5B-4CD0-A23A-397E7A54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5E5356-81C1-4527-A864-CB5E26F7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FAAE02-1FF7-487C-B9F1-F5594E1B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0995EC-9D61-4161-B6C1-7AEDA3F3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331CB8-3AD7-4B11-90E7-1A7B83DB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E01402-4C35-47C4-89A7-8669EF7A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333F15-1B77-49FC-BAF3-64F3CE1C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9654-9C6C-49C0-946D-9E3C6A32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9016BF-BE04-460A-A33A-B9B9D308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D2C6D9-BBD8-49BE-A72C-AB8D7D3B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5DF885-926D-4207-B914-FD04E0C2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BD2C6D-EA65-4C48-95C1-4B487105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EB971E-8968-4476-BA57-6C6714DE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265D6D-23AB-426A-8395-56A6379C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E64CB3-2989-4E45-9F31-554A1F1A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B05878-794C-42B3-872E-630A541A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248FA5-499E-4DA5-9DC8-5BB7E676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590167-811C-49DF-A878-61FDD67C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71F1-A9B8-4368-9BFA-38101543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81EB3E-CB85-4E52-B49B-7FA12E41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0A410A-6763-489F-B4B7-D7D40996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5B15AA-9432-4254-8C73-B9D7E0FE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054FCE-D055-456F-AD5F-3F1A050D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A8A317-9B0F-4D14-9522-B175A826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F81A5F-EF05-4BF2-92AB-9B350511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A71A3C-0ABC-48DF-A2E6-5D809D4A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2BD185-175C-49D3-8EDA-D3F3810A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8B93EA-B103-49C2-B088-19B1A73A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A36379-F6E9-4F7D-BCE3-FDBF84AC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56687-377B-4326-8E5F-528046C9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6D3528-178D-41AB-B18D-409AB580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F47938-67F8-41E0-AF30-FB72BBF7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B6127F-F43C-4FA1-BCDB-FB106D92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B43EB-B22E-492D-B007-F6D82FEA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4686C-B0AD-4B84-B0D5-3B829406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CF88E-3618-420A-8517-C03D4E1E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BDE6E-C9E3-49BA-9036-44179E48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06D2-7251-4463-8BBC-BA3A0D85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0F30E-8887-4A39-A58A-92E9A54F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AF9A0-3DC7-4334-9E74-4636FEF5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3D66E-044E-4A48-B407-5151A99F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72E59-1D2E-4E1B-9A94-1DFF3902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B3545-BBB5-4A33-9158-B3D5FE76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554C6-B217-4B91-B385-A90B0D6D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57074-53B6-4BEA-8B32-EDFDA88E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BE632-73A9-4655-99E8-F3E70980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9FA92-373C-46D5-8CFB-1DF382A1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738A0-45A9-43CD-B110-E15729FE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C00F-073B-4D95-8A99-0FD0A96C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EB161-FC2D-4C7C-8591-C89C4013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AFE12-0F10-40B5-843C-4909A93C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31FF1-056C-4AE6-BE46-B0F9F340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C2CE4-3EB1-4039-89F9-41BC7E5A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B3215-B748-416A-955D-D8EAAAD8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0EE43-00F3-4639-A2BA-A979F9BF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23A74-6F4A-4B3D-B8DC-B5F0D9F3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82122-05F5-41E8-870C-AB9AD5E0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CF51E-1BFD-429B-A21E-6DDCAF46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6C15E-D559-46FB-AD37-D8BCDF9D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8366-2551-4894-B10C-0E1C1273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C0280-92FB-4913-879F-8408CE38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0A483-6E7A-4F93-B817-009DB1E4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03B23-B98C-479A-A9BE-7AAD68CE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8F815-0719-4C09-8F6B-AAD26604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E2E1F-8653-4337-BFEB-F306CF23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99BD3-3528-43DA-A660-498C7BA5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A7EBE-FC4E-4217-8178-0D9DD9A1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F29BB-14AD-485F-816A-528AB3F3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63003-2039-4249-AB0E-B202ECCD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E59A1-A4A8-416C-BFCD-55566886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9CD4-EF9B-4DA6-A890-626CF33C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87A98-434E-4DA8-8FF1-9ADE6A83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CF77B-A83B-40CC-BB5A-E6A343DB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91C63-0B7D-4920-A883-A1298455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4D986-33C0-4716-A639-878584ED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76AF0-9684-4535-8B04-49C11B04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34AAA-D4DA-4E65-AC42-6797B8F3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0AD01-057A-4306-8401-8AF46C4E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ECF03-2FAB-4865-8B5D-2CB95C39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C386E-FA77-49A4-8169-EFC980D3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F55C4-594E-4EF4-8380-22798D33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CF6A-E046-4A12-BD3C-E8ABC172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91E12-C515-43C4-8828-776DE2B8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77E67-F235-4A9E-89A7-FE15314A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80257-CA63-4356-9FC8-90053C5B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B44D7-4DE5-48B0-B092-1E511110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F1A8F-29D2-4B57-99BC-258EE56E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84AF9-D592-4A16-82E6-1A2E0757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6A150-A8C4-4F40-A4C6-223202E8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F1D05-9F2A-418D-BE24-77B95A6D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7D7B8-CD0D-4460-BA3A-62575826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FDEEB-3215-48C1-BC20-487F48B0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6C50-43E8-453A-8A52-DA3DF8D5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7208E-E535-4779-ADA2-D5DD7354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A56BE-D9D0-4851-96AF-A64F06E1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A0703-8954-4C9C-9E3A-18D05AB0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6C0E2-3523-452D-9F03-3C67327F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53E05-EB4C-43CF-8FC7-31942295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50F4B-B52D-41ED-A027-A4E64A61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ADEEA-12AD-4C5B-A2B0-6FB8F39C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60AED-B039-4A26-A208-81203A97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F0FC5-4529-420D-8D21-0F1A3E22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C2EA7-0DE6-4CC1-82FB-EF32ACAF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53A4-0A81-44B7-8CC1-DFC3AC06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10A8C-16B4-4FB4-AF6B-9DAD1A0F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5F242-6B55-4611-960D-3298C571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D9617-B52B-437C-A299-DA0E8991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AB269-AB9A-4180-8BFB-03FA0BA3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289A1-211B-4D4C-996A-48BFA2E3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4F92C-A68A-40C6-84FD-FD5D6F4B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E231B-81E3-4E4C-B28D-4AD457FB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6A6A0-FAE2-4AC6-8479-3F3886D3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806E5-5A39-470C-8964-2B6899DE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4998C-2E22-4AC3-B979-B6E75091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E6B4-FC07-43E1-8764-B7FFD6FB0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833E-F649-46EF-85DA-B58A57EDB0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BCC7-A7F0-46FC-A0C6-7DC4B44A4B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2A42-A781-4D44-ADF1-C7A09B2211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F1BB-951E-458B-9EA5-912E4EA577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721F-7073-49DC-8B27-1E1A6740FF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7205-2C36-42F1-8B47-2B1CE47B75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358C-22D5-49AB-B935-0290DF2394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7539-7BF6-461E-89D7-250808B686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D99C-ADD5-4CE6-99E0-5E072663AB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569B-435E-46B3-9183-A4C498638E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3CF1-1065-4D73-9B6E-5893BFAB2E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CCB8-03E8-4A74-99EE-9118C6562D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6B7C-20EB-4558-B4C7-47B9AFCA70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F21D-7169-4C95-B881-24D79F6F19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1BED-C19A-49DC-8465-4E4A174F3A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EBA2-F232-438B-A469-A02CB24595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680E-6A62-4816-A039-008DE36BA9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C18E-C40C-4141-9E44-B86F2549CD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F9E1-F722-443F-82C9-7BD566615F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DB77-DB00-4F06-B419-4AB4287356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5C03-3E4C-49F1-8FB6-0FA55B0157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C4E6-1676-4915-88CE-B906255862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3A6C-A0AC-470A-8E0D-D8855DD8DE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8B79-EDCF-4C34-BF31-032EBDA6FD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E10C-AB4E-4543-AA88-E9566D166F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CC18-CF15-4C48-9C22-1A070C083F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6B86-C0C6-4EA0-8822-9696668D3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955E-D697-43C8-BB38-F0C12678AE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6720-FF0A-49ED-9069-8B92499669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02A3-518B-4557-8B30-208C272EC2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0D72-E346-439E-ABEA-0D78FE5D56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F762-35E6-40E7-BEE9-38B78C4A02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5260-1CB0-47EF-9110-1AD2B2691D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BC2E-443F-47A4-9B8E-BB9AA67F5C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2361-2EAB-40AB-8EF2-2625276765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908D-072E-45FD-9F30-3F78D649F9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D8C4-B71F-46BE-8CF5-137813409E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BFBD-3463-4E1E-9009-BD3C89DFBC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537B-87C6-4142-A979-EBA7BFD52C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076480" y="3009960"/>
            <a:ext cx="4991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495360" y="681120"/>
            <a:ext cx="8153280" cy="5495760"/>
          </a:xfrm>
          <a:prstGeom prst="rect">
            <a:avLst/>
          </a:prstGeom>
          <a:ln w="0">
            <a:noFill/>
          </a:ln>
        </p:spPr>
      </p:pic>
      <p:sp>
        <p:nvSpPr>
          <p:cNvPr id="1048" name="矩形 2"/>
          <p:cNvSpPr/>
          <p:nvPr/>
        </p:nvSpPr>
        <p:spPr>
          <a:xfrm>
            <a:off x="1143000" y="4000680"/>
            <a:ext cx="1571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3"/>
          <p:cNvSpPr/>
          <p:nvPr/>
        </p:nvSpPr>
        <p:spPr>
          <a:xfrm>
            <a:off x="4000680" y="485784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4"/>
          <p:cNvSpPr/>
          <p:nvPr/>
        </p:nvSpPr>
        <p:spPr>
          <a:xfrm>
            <a:off x="5214960" y="5286240"/>
            <a:ext cx="17859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476280" y="876240"/>
            <a:ext cx="8191440" cy="5105520"/>
          </a:xfrm>
          <a:prstGeom prst="rect">
            <a:avLst/>
          </a:prstGeom>
          <a:ln w="0">
            <a:noFill/>
          </a:ln>
        </p:spPr>
      </p:pic>
      <p:sp>
        <p:nvSpPr>
          <p:cNvPr id="1052" name="矩形 2"/>
          <p:cNvSpPr/>
          <p:nvPr/>
        </p:nvSpPr>
        <p:spPr>
          <a:xfrm>
            <a:off x="1222200" y="808200"/>
            <a:ext cx="8575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3"/>
          <p:cNvSpPr/>
          <p:nvPr/>
        </p:nvSpPr>
        <p:spPr>
          <a:xfrm>
            <a:off x="4000680" y="1285920"/>
            <a:ext cx="8571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4"/>
          <p:cNvSpPr/>
          <p:nvPr/>
        </p:nvSpPr>
        <p:spPr>
          <a:xfrm>
            <a:off x="1928880" y="1714680"/>
            <a:ext cx="100008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5"/>
          <p:cNvSpPr/>
          <p:nvPr/>
        </p:nvSpPr>
        <p:spPr>
          <a:xfrm>
            <a:off x="1714680" y="2143080"/>
            <a:ext cx="135720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6"/>
          <p:cNvSpPr/>
          <p:nvPr/>
        </p:nvSpPr>
        <p:spPr>
          <a:xfrm>
            <a:off x="3786120" y="3000240"/>
            <a:ext cx="100008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7"/>
          <p:cNvSpPr/>
          <p:nvPr/>
        </p:nvSpPr>
        <p:spPr>
          <a:xfrm>
            <a:off x="6715080" y="3429000"/>
            <a:ext cx="100008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8"/>
          <p:cNvSpPr/>
          <p:nvPr/>
        </p:nvSpPr>
        <p:spPr>
          <a:xfrm>
            <a:off x="1428840" y="4286160"/>
            <a:ext cx="150012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38120" y="876240"/>
            <a:ext cx="8267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509760" y="1300320"/>
            <a:ext cx="8124480" cy="4257360"/>
          </a:xfrm>
          <a:prstGeom prst="rect">
            <a:avLst/>
          </a:prstGeom>
          <a:ln w="0">
            <a:noFill/>
          </a:ln>
        </p:spPr>
      </p:pic>
      <p:sp>
        <p:nvSpPr>
          <p:cNvPr id="1025" name="矩形 2"/>
          <p:cNvSpPr/>
          <p:nvPr/>
        </p:nvSpPr>
        <p:spPr>
          <a:xfrm>
            <a:off x="928800" y="300024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3"/>
          <p:cNvSpPr/>
          <p:nvPr/>
        </p:nvSpPr>
        <p:spPr>
          <a:xfrm>
            <a:off x="928800" y="385776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4"/>
          <p:cNvSpPr/>
          <p:nvPr/>
        </p:nvSpPr>
        <p:spPr>
          <a:xfrm>
            <a:off x="1000080" y="428616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5"/>
          <p:cNvSpPr/>
          <p:nvPr/>
        </p:nvSpPr>
        <p:spPr>
          <a:xfrm>
            <a:off x="928800" y="47149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6"/>
          <p:cNvSpPr/>
          <p:nvPr/>
        </p:nvSpPr>
        <p:spPr>
          <a:xfrm>
            <a:off x="928800" y="514368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604800" y="1724040"/>
            <a:ext cx="7934400" cy="3409920"/>
          </a:xfrm>
          <a:prstGeom prst="rect">
            <a:avLst/>
          </a:prstGeom>
          <a:ln w="0">
            <a:noFill/>
          </a:ln>
        </p:spPr>
      </p:pic>
      <p:sp>
        <p:nvSpPr>
          <p:cNvPr id="1031" name="矩形 2"/>
          <p:cNvSpPr/>
          <p:nvPr/>
        </p:nvSpPr>
        <p:spPr>
          <a:xfrm>
            <a:off x="1143000" y="178596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3"/>
          <p:cNvSpPr/>
          <p:nvPr/>
        </p:nvSpPr>
        <p:spPr>
          <a:xfrm>
            <a:off x="1071720" y="257184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4"/>
          <p:cNvSpPr/>
          <p:nvPr/>
        </p:nvSpPr>
        <p:spPr>
          <a:xfrm>
            <a:off x="1143000" y="307188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5"/>
          <p:cNvSpPr/>
          <p:nvPr/>
        </p:nvSpPr>
        <p:spPr>
          <a:xfrm>
            <a:off x="1071720" y="385776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"/>
          <p:cNvSpPr/>
          <p:nvPr/>
        </p:nvSpPr>
        <p:spPr>
          <a:xfrm>
            <a:off x="1071720" y="435780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238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2" descr=""/>
          <p:cNvPicPr/>
          <p:nvPr/>
        </p:nvPicPr>
        <p:blipFill>
          <a:blip r:embed="rId1"/>
          <a:stretch/>
        </p:blipFill>
        <p:spPr>
          <a:xfrm>
            <a:off x="423720" y="1709640"/>
            <a:ext cx="829656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500040" y="1285920"/>
            <a:ext cx="8124840" cy="5335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2" descr=""/>
          <p:cNvPicPr/>
          <p:nvPr/>
        </p:nvPicPr>
        <p:blipFill>
          <a:blip r:embed="rId2"/>
          <a:stretch/>
        </p:blipFill>
        <p:spPr>
          <a:xfrm>
            <a:off x="714240" y="1928880"/>
            <a:ext cx="7829640" cy="3800520"/>
          </a:xfrm>
          <a:prstGeom prst="rect">
            <a:avLst/>
          </a:prstGeom>
          <a:ln w="0">
            <a:noFill/>
          </a:ln>
        </p:spPr>
      </p:pic>
      <p:sp>
        <p:nvSpPr>
          <p:cNvPr id="1040" name="矩形 3"/>
          <p:cNvSpPr/>
          <p:nvPr/>
        </p:nvSpPr>
        <p:spPr>
          <a:xfrm>
            <a:off x="1000080" y="12859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1" descr=""/>
          <p:cNvPicPr/>
          <p:nvPr/>
        </p:nvPicPr>
        <p:blipFill>
          <a:blip r:embed="rId1"/>
          <a:stretch/>
        </p:blipFill>
        <p:spPr>
          <a:xfrm>
            <a:off x="538200" y="2119320"/>
            <a:ext cx="8067600" cy="2619360"/>
          </a:xfrm>
          <a:prstGeom prst="rect">
            <a:avLst/>
          </a:prstGeom>
          <a:ln w="0">
            <a:noFill/>
          </a:ln>
        </p:spPr>
      </p:pic>
      <p:sp>
        <p:nvSpPr>
          <p:cNvPr id="1042" name="矩形 2"/>
          <p:cNvSpPr/>
          <p:nvPr/>
        </p:nvSpPr>
        <p:spPr>
          <a:xfrm>
            <a:off x="857160" y="22147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3"/>
          <p:cNvSpPr/>
          <p:nvPr/>
        </p:nvSpPr>
        <p:spPr>
          <a:xfrm>
            <a:off x="928800" y="350028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490680" y="895320"/>
            <a:ext cx="8162640" cy="5067360"/>
          </a:xfrm>
          <a:prstGeom prst="rect">
            <a:avLst/>
          </a:prstGeom>
          <a:ln w="0">
            <a:noFill/>
          </a:ln>
        </p:spPr>
      </p:pic>
      <p:sp>
        <p:nvSpPr>
          <p:cNvPr id="1045" name="矩形 2"/>
          <p:cNvSpPr/>
          <p:nvPr/>
        </p:nvSpPr>
        <p:spPr>
          <a:xfrm>
            <a:off x="928800" y="92880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3"/>
          <p:cNvSpPr/>
          <p:nvPr/>
        </p:nvSpPr>
        <p:spPr>
          <a:xfrm>
            <a:off x="928800" y="428616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27:5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